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4060-4AD5-43BE-954D-85D7FB5AE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F6A7-991F-44B3-B7B8-43463C00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605E-7BAB-4F4E-B339-C68BA689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06C9-C36D-43AE-B8BD-D544AC6B2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25D-F0A0-42A8-B88E-8656DD7D4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17DC-40F7-450B-BB82-E0F34A0F3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F615-7A1B-4CF5-BFDE-1C91EA7A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EC47-061B-4336-8EF1-E095D1BE7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0CE1-C19D-41EE-9196-99329B93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F161-1D45-4E98-8F27-080F40CD3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D1A0-CA0C-4C08-AFC3-BF4B4C1F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FB0-250C-44FF-86D2-81B20F364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9158-C50C-4AB2-BC4E-D94F4F67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CAB8-92E7-492F-BD0A-03DE3625C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7EEE-E9D8-4D9C-A5A4-744CCBB1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8962-42C1-4ADA-A7E2-51E848442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4E9F-AF4D-4B11-B914-5507B15BB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EFE2-DFCF-4183-ADED-D58250C2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F47E-F976-42D2-97F0-10DBA8E4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BB3-3C8F-49D6-9973-7B18B496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7B6-6B84-4471-8039-F44620A5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623-DB01-4919-AE97-A491EFF2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053-9CA2-40FA-84F2-89D7D5D3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090B-E23B-4E27-90B1-17D906DE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9E81-D533-426D-B79F-B33EC9D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4753-1E83-4739-8736-92A9C923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9441-08F1-4717-B101-342CB18F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C112-A1C7-4891-8EDA-6342FB41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061-7EA0-4903-8F2B-30D058BB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0193-FCCC-4A4E-A0EB-3D75CB16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FF5-5140-4DA1-B2F9-CC531F2B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E563-3D34-4F40-ADDC-058EEA6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70EC-FDD9-4082-A3EA-54044306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7F04-123B-46E3-834A-F9CD6574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2F54-8730-4C08-8B7E-E56DF03C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B2FE-F5E5-4ED0-AF5C-CC5F8BF2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E3D-FD98-484D-8FD2-3F95A720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873-667B-4C05-925D-6D9291F6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6C3-6F20-41E1-8E6F-7B78CD47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7BF-0510-44AD-9D9E-464B5F23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8D8-3D83-4CFA-A7B2-50F7B54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CB0-D989-4ECD-B2EB-A2CE803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919-A27C-4C6D-A48C-FFC46993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B4F7-D670-4C8E-B39C-C1DEFECF4F6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408A-8E52-4B41-A429-E9D68D6AD2D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3429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merican Typewriter Light"/>
              </a:rPr>
              <a:t>Six + One Traits of Revision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52120" y="4952520"/>
            <a:ext cx="6032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248520" y="388620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Placeholder 5" descr="6+1WritingTratis.jpg"/>
          <p:cNvPicPr/>
          <p:nvPr/>
        </p:nvPicPr>
        <p:blipFill>
          <a:blip r:embed="rId2"/>
          <a:stretch/>
        </p:blipFill>
        <p:spPr>
          <a:xfrm>
            <a:off x="3273480" y="2000160"/>
            <a:ext cx="4913280" cy="48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 Light"/>
              </a:rPr>
              <a:t>WORD CHOIC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18288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ords paint a picture in the reader's mind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aren't any words that are repeated too often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language is natural, not overdone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used strong action verbs to add drama to the paper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has used specific nouns to identify people, places, and object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has used descriptive adjectives to help create a mental picture for the read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has used similes or metaphors to explain anything unusual to the reader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has avoided vague, boring, overused words, slang, and clichés. He/She has tried something new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ord Choice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2680" y="3504960"/>
            <a:ext cx="4572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at its best when it includes the use of rich, colorful, precise language that moves and enlightens the r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 Light"/>
              </a:rPr>
              <a:t>SENTENCE FLUENCY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sentence is a complete thought that makes sense. No words have been left out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fragments used are intentional and add to the message of the paper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ll sentences are the same length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ll sentences have the same 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ll sentences begin the same way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per is smooth and easy to rea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182880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entence Fluency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505320" y="3276360"/>
            <a:ext cx="44193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the flow of the language, the sound of word patterns-the way the writing plays to the ear, not just to th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 Light"/>
              </a:rPr>
              <a:t>WRITING CONVENTION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per isn't one or two huge paragraphs. Each new idea has its own paragraph, which is indente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 ideas are in the same paragraph so there aren't too many paragraph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no spelling error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italization is used correctly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tences are punctuated correctly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no grammatical errors. The reader doesn't have to stop reading to mentally correct mistakes in the paper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onventions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352320" y="34290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esent the piece’s level of correctness- the extent to which the writer uses grammar and mechanics with pr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onvention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an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ext is formatted and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if text is hand written or word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is readable and understa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vis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whit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s, page numbering and bul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Presentation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eroes in on the form and layout- how pleasing the piece is to th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457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Typewriter Light"/>
              </a:rPr>
              <a:t>Writing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2590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lkboard"/>
              </a:rPr>
              <a:t>Prewriting        Drafting       Revision       Editing       Publis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04920" y="33368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Ideas               Ideas            Ideas       Conventions        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04920" y="40226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xti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Voice          Organization   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04920" y="4708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12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Word Choi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04920" y="60800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Sentence Fl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8954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8380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7242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63244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81532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724280" y="371808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4724280" y="440388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47242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472428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838080" y="371808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2895480" y="371808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4"/>
          <p:cNvSpPr/>
          <p:nvPr/>
        </p:nvSpPr>
        <p:spPr>
          <a:xfrm>
            <a:off x="533520" y="0"/>
            <a:ext cx="769608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Typewriter Light"/>
              </a:rPr>
              <a:t>IDEAS &amp; CONT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Typewriter Light"/>
              </a:rPr>
              <a:t>The heart of any piece of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5"/>
          <p:cNvSpPr/>
          <p:nvPr/>
        </p:nvSpPr>
        <p:spPr>
          <a:xfrm>
            <a:off x="99072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aper has a clear purpose or makes a point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paragraph relates to the paper's main ide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paragraph contains clear, relevant details and examples in every that develop and support the main ide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writer sticks to the main idea and leaves out details that do not matter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aper contains enough information to cover the subject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tle, if there is one, relates to the main idea of the paper and "hooks" the reader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727de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Ideas 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05320" y="3200040"/>
            <a:ext cx="4419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ke up the content of the piece of writing-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f the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g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ORGANIZATI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16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 grabs the reader's attention, making the reader want to read more. It also gives a sense of the main ide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ganizational pattern makes sense. It is easy for the reader to follow alo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gaps where something seems to be miss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ragraph talks about only one ide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s are linked together with smooth transi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lusion ties everything together with a final point or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der isn't left "hanging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Organization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657240" y="3809520"/>
            <a:ext cx="42670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the internal structure of the piece, the thread of meaning, the logical pattern of th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51460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002200" y="2685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 Light"/>
              </a:rPr>
              <a:t>VOIC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2" name="Text Placeholder 3"/>
          <p:cNvSpPr/>
          <p:nvPr/>
        </p:nvSpPr>
        <p:spPr>
          <a:xfrm>
            <a:off x="1371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sounds different from everyone else's. It's uniqu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sounds like the writer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riting shows how the writer feels and thinks about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has personalit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is convincing, not "fake.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is fun to rea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is lively, or exciting in some wa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167652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Voice 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428640" y="33523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u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 the piece. It’s what makes the writer’s style singular, as his or her feelings and convictions come out through the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04960" y="213336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 separates writing that is read from writing that is not read.”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ald Murray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19:44:26Z</dcterms:created>
  <dc:creator>Ann</dc:creator>
  <dc:description/>
  <dc:language>en-US</dc:language>
  <cp:lastModifiedBy>Mobile Student</cp:lastModifiedBy>
  <dcterms:modified xsi:type="dcterms:W3CDTF">2011-12-31T20:18:04Z</dcterms:modified>
  <cp:revision>159</cp:revision>
  <dc:subject/>
  <dc:title>Assessment must promote learning, not just measure it. When learners are well served, assessment becomes a learning experience that supports and improves instruction. The learners are not just the students but also the teachers, who learn something about their students. Regie Routman Conversations (2001)</dc:title>
</cp:coreProperties>
</file>